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14.pct" ContentType="image/x-pict"/>
  <Override PartName="/ppt/media/image2.jpeg" ContentType="image/jpeg"/>
  <Override PartName="/ppt/media/image3.jpeg" ContentType="image/jpeg"/>
  <Override PartName="/ppt/media/image5.jpeg" ContentType="image/jpeg"/>
  <Override PartName="/ppt/media/image12.pct" ContentType="image/x-pict"/>
  <Override PartName="/ppt/media/image6.png" ContentType="image/png"/>
  <Override PartName="/ppt/media/image1.jpeg" ContentType="image/jpeg"/>
  <Override PartName="/ppt/media/image7.png" ContentType="image/png"/>
  <Override PartName="/ppt/media/image8.pct" ContentType="image/x-pict"/>
  <Override PartName="/ppt/media/image4.jpeg" ContentType="image/jpeg"/>
  <Override PartName="/ppt/media/image13.pct" ContentType="image/x-pict"/>
  <Override PartName="/ppt/media/image9.png" ContentType="image/png"/>
  <Override PartName="/ppt/media/image11.pct" ContentType="image/x-pict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3D5-FFEA-4519-AC0C-2FAD9D86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8CAA-DC82-425D-ADEA-BC04E081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0D1E0-20D6-41CB-8D18-9617777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CE61D-BE44-488A-A3B7-08A8C85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DD694-7BF5-445E-82D6-FFB178E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DE9C6-74EB-4445-BC1C-6DB0C75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794C1-D8D8-4D5D-B70A-8F7C62B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8A973-F2C0-47C3-901B-52817F7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E0FC9-A98A-44D6-9687-3CCC5540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48F8-1FA1-45DD-A58C-8B69BE50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71102-52B2-4C2A-A8CA-5C664BBD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09B76-463E-4B06-AA0F-44E7D975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93E-013F-407F-BA69-3D461E2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79437-EFC1-4C56-9152-ADD8D36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8B4CF-7C62-45A8-B945-33465431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1CA29-7AAB-4878-B6D8-EABF1D3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542C4-0E7E-4A0B-9D5C-49715198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653E7-6528-45CF-B8D9-F2B4B7F5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A9E36-DCCE-41FD-95CB-E6705F6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215CB-282E-4F74-8273-78826AA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3EFFE-E1A1-4833-A515-9863889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2B6DB-48C5-4939-A446-2908CC96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4CA4D-32CC-4DB4-9464-E512D958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D94-CFFB-434E-8F05-B8AEB8C4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72B6B-5489-40B0-AA43-7FB9B6C7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4066-98F0-4905-9273-87F3BCD2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EE9AE-A1EF-4C32-B259-534385B4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9A599-FE67-40DD-87C1-5985CAB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4DA72-9749-420C-A9F4-5C00598D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2DF83-1164-4978-B5B6-95A67BF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5ACE3-1E55-4BDD-8562-314743D0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ABC32-6D49-4A5D-B1B6-9090ED4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8CAE7-ABDC-4C1B-9F6B-7037F3C8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5D54B-BD91-4BBD-A420-E64B133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1CD7-E3D9-4998-9713-42A32380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5896-1FF4-4AC7-BF85-A99F1B5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A358D-3AFE-402F-98E0-566FDF3C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FEA64-194E-4FA0-AD38-21C8F960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0DD1B-ADC2-48DA-B14C-87639797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A1733-D706-4A8B-B91C-EA725E63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700B2-C973-4B5B-B311-BEE66553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2706B-3BA4-44DF-99CF-45B7052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289F0-8A97-4D76-9B8D-F81CC659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6EA51-682B-4E97-A550-89DC79C3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1A260-63B2-4972-A78A-D1DE323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1C69-99C2-4DB3-A072-E8B86D1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18D41-9C20-4EBD-9D31-B8E0900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6A6D3-F1D9-4C3B-819B-19817AF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78735-7FDB-445E-AA5E-7D0D181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7693-427B-411C-AA61-C6281F15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73FF0-CC55-4596-AC19-A1AA37D4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782DF-3548-4EEC-ABD1-D3C955E8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B120-D51E-45B5-979C-6F4D8D9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18C06-FC5D-4F23-B6F6-8605C7B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EE687-AE13-4F5F-9FF2-6A72DBE8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55A35-CE58-4609-B368-2E8C0CE0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027-F473-4EA0-9DCD-51B194D8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755C3-C900-4ED3-8F04-8CF1277B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F8E4C-955E-44D8-A659-D021672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28843-72CF-4783-81DD-32312C6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AE219-DD01-4C39-9ED9-C12E4E4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4E338-8F7D-45F9-B111-8857CB5E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BBDB9-1461-41FB-9FF7-3FAB5374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95F63-BE63-45E3-BCE6-B7333FFA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8908A-9BF6-430E-AB6E-FDE2B665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5F451-D633-478D-ABE5-98493A79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9B051-8074-4E12-A5BB-741E9F6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56E-6329-447E-8414-DC61315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8067E-434F-4068-9352-E2269B8E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0C336-B743-4D51-85FF-624ED903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8A27F-EC4C-4317-8E3E-A59EBB44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A6D43-2558-4DE0-8C7F-F2178E3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A64F1-4F2C-4A35-9155-8FFE1FDE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CED92-84AD-4000-95AD-B8D1BDA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D4139-8642-4B1D-A3E5-000F94BA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0397F-5520-46B4-9F9F-740CE870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C7164-4B5E-4039-99AA-81C42F75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51343-C7FC-4DEB-B7B2-63F78A1D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7FAB-A46B-4EF1-9224-D3CBEE91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2A546-2180-44A1-9071-30874F21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C9E5B-3AAF-455B-B578-D7A271C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918FE-B668-41F0-9C7D-167F492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805CC-0779-427E-820A-14EFA90B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AA7A2-FFB8-42C1-9AFB-814C75EE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E16D8-AE81-4D77-848D-F6B1347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982BE-CE79-4C5E-8141-55C6B9A6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9F576-8193-4156-AA53-842338C8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3AD93-CD32-459A-87F1-DFF5FDF7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28B88-73F4-49F2-9416-27FCA478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60E-BAAC-4E67-A056-3254078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4465B-AB88-4EC4-B3FA-6156FD60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DF8FC2-9004-4F7D-9CD2-D6047159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1F982-6BED-4C02-8973-AE8A2325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28ACE-CA41-4A2B-BB2E-AD51D8A8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0C1AD-0C41-4674-B368-BF5BC18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BA8CD-2581-4EA8-9480-6E2C933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CBE08-5820-4FD0-BCD6-8DBFCB8E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63514-A37A-476A-8661-F9F1AF1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CFB49-7DC7-472D-A72A-71CA08A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578D4-6CAF-4E58-89C7-BFA746FB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43C-8B1E-4816-BAAA-3B8857B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64736-2470-4523-85DD-776D1D4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53DC5-5247-41BE-BF0E-FB1F9CB0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2E0A8-E2A1-4AF5-8AB0-0B6D97E2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24D-B07A-4EF2-8629-ECFEE21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F49-7A5A-4460-A125-7856E6B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576-D16D-488B-8166-7D3C207D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64F-F7AB-455F-937F-D478FE49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2E8-7215-4F8A-84DB-03E32C3E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697B-603B-4EF6-A402-53935124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CD50-232D-487E-B5EE-75A2FC0C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8137-4A9E-43D5-91E1-EFDCF04A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3893-7746-44C2-A9DC-BACC8F6A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6CBD-19AF-4E13-8156-61FDF56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48B6-7933-4E41-A8F8-5196966F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939-9145-4B4B-8D9E-A399831D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B953-D54F-441B-930D-3AEEECC8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93CB-A049-4554-A15E-60EC6DB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A978-D058-4B93-9484-C99F88D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3FA8-AE2A-4D33-8B72-E12E2AD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8D17-B1C9-46A4-8EA4-108C5BC6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DDA3-1381-4CEA-A2C1-97227CD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0A94-083E-45D1-B36A-CBF35B2D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84D6-F551-47C1-B733-84F1386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F1E9-6DA8-4728-9830-BABBB95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1E58-36AA-4CE4-80C3-FE5A44B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71D-E1DA-41BD-B14B-21395D3E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4277-F7EC-474C-985D-351A5AF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E65C-B452-431A-9B36-D61DE2C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94D6-5AC4-4D7D-8062-6AB4B7D0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4E3F4-9F4E-42BA-905D-ADAE3DF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35B9-0970-4D65-BEB5-CD740354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4BB9-56D9-4FB6-BBED-C2D8841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5311-2B51-49BE-BC3E-D8A16450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0944-E3DE-442C-8FC2-E59701A9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1319-7DF4-40D3-931C-2D820BB1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9AC4-1EA1-46A6-A2D8-512F7B4F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99D-6EA5-47AA-8F6B-6F99732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D453-D384-489A-8CD5-CC87B1A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00B2-692D-417B-9D31-B87E2FA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47648-4411-48AF-8A73-A22FFCF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4CDA-835F-4712-8662-E44361C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2CAE6-FC36-4238-B808-E182989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418E-866B-4DDC-AE10-216BEDB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54F9-5726-4EF7-9571-167A721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D502-0D89-4087-968D-4A84D90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1607-5D22-4EAC-8DEC-97E19ECF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6F27A-732A-44B4-8A2A-8CD7E7D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C90-8A6E-4FD1-B1B0-EC50051C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F94FC-B790-4617-8E53-ABAC4C25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E2B10-365C-4C4A-95C0-05F4520E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A56D-AEEC-4003-B19B-F9484A7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AA11-A373-4EA5-938C-0C2EC5D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4F07-9589-467D-8C30-933FFAC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8B92-7D06-4BF3-95A1-D57B54C9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DE5C-B44A-417F-9F93-DF950D3B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7F94-BCB9-4B42-BE71-089AA85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E5DB-8514-44F2-9C1E-897085F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E71E-851C-4916-B10D-7545E0A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045-874D-4F9C-A455-68C948D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7D830-4166-4CF1-834A-585EA2B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3016-E186-4D45-A6EF-3E48C9A5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208C-2FD2-49F8-BECC-AE1AAF26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0C27-D3D9-4EFD-AB31-03C4EC4F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74BD-7657-42CD-965A-25F8D55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C2EA1-C421-4EAB-BDD3-C718CED7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5E04F-484D-426F-A926-11A38EB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4AE6-F3E4-4911-8066-F13E2E1F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F920A-588D-459C-B649-E8764CC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125F-3569-4887-B6F8-EA36AA0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8D1-07E4-4E55-8FB1-4119D21D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55CE-F618-40ED-B6E7-D2BB9FF5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FB3A-DFDB-4EE7-9274-2B61CFE3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ECA2-09BB-4423-AB26-9DD3BBB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52C2-181F-4174-85FF-CFF30C51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F783-9629-49F4-BDAD-E1ABE467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63B4-385A-484E-9472-73CE9465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22FD7-BF3E-4A8C-8FED-3F54A0F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20F4-9865-4FF3-8F50-1FD3B53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60634-3F21-476A-92E2-3CD4FFE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14569-1F0E-438F-97E1-C24CCCE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9F1-28DD-48ED-9CD3-D3CC68C4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A0DBA-EED1-4435-89D2-24AF802E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1DCD-1AF9-490C-97BE-5151BA1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4013-8FD6-4A2C-A390-E4BFA5C8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60A51-39C6-4588-9890-CE4545C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42E5-2EB0-4B4D-812D-AF967D1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2B417-B63E-45CE-91CF-A8560E59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F28B4-BE34-4B46-8ACB-51E98C38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89E28-501E-43C4-BFDF-7F28F9E0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77761-2AF5-4833-BDD7-F382A775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19C9D-7AA6-43F3-A4EA-CBAD15C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6B6-02DD-4277-9216-B13A703B610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dt" idx="28"/>
          </p:nvPr>
        </p:nvSpPr>
        <p:spPr>
          <a:xfrm>
            <a:off x="6858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9"/>
          </p:nvPr>
        </p:nvSpPr>
        <p:spPr>
          <a:xfrm>
            <a:off x="297144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30"/>
          </p:nvPr>
        </p:nvSpPr>
        <p:spPr>
          <a:xfrm>
            <a:off x="655272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238d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1BC0-818C-4B61-B419-DE1B1B356FB5}" type="slidenum">
              <a:rPr b="1" lang="en-US" sz="1400" spc="-1" strike="noStrike">
                <a:solidFill>
                  <a:srgbClr val="238d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title"/>
          </p:nvPr>
        </p:nvSpPr>
        <p:spPr>
          <a:xfrm>
            <a:off x="2361960" y="1828800"/>
            <a:ext cx="6095880" cy="96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3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28F1-42BF-48B9-8588-C9B3DA3E1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378-F991-4F7F-A0BD-F3943625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A1F-8D3D-47D9-84E5-5B0ED8BBE33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BFB-F70E-4F7E-ABB3-0D05AF2366D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7F4-F99D-4E05-BDF7-F760BB837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BF2-8D42-4DD9-8148-66EF86DAE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C5D-549C-4AD2-875C-E35689A00D7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DE3-6311-4514-A5E3-D74FCFE19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B440-E210-4446-809A-FA3ACE43D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7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70F7-6E24-4812-B3CC-C34764D3C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2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5D0-B4BF-49BF-8E51-2D006ACB66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7277-E492-4981-8509-84C632AC6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43F-1BC7-450E-A689-3936D638D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6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84872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685800" y="640080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009600" y="640080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40080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AE3E-BBD6-46D0-BE62-B11F54A2372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choolHouse Printed A"/>
              </a:rPr>
              <a:t>CONTEXT CLUES</a:t>
            </a:r>
            <a:endParaRPr b="0" lang="en-US" sz="10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nell Roundhand Black"/>
              </a:rPr>
              <a:t>The secret to mastering fill-in-the-blank questions!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LANG CONTEXT CL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ck a slang flashc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the word AND its definition at the top of your paper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rite a sentence for each type of context clue for your slang word.  Somehow identify the word in each sentence AND the signal word/phrase like I did in the sample senten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400800" y="3505320"/>
            <a:ext cx="227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oper Black"/>
              </a:rPr>
              <a:t>CONTRA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Jamie wasn’t coo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pool party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ff the h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81480" y="1143000"/>
            <a:ext cx="762120" cy="609480"/>
          </a:xfrm>
          <a:prstGeom prst="rect">
            <a:avLst/>
          </a:prstGeom>
          <a:solidFill>
            <a:srgbClr val="eaff01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52480" y="7621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622"/>
                </a:solidFill>
                <a:latin typeface="Cooper Black"/>
              </a:rPr>
              <a:t>GRAMMA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3504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(1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young me (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y mama had bee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een years old kicked out (3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stree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back at the time, I never thought I’d see her f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n’t a (4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o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ive that could take my (5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ma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pended from school; and scared to go home, I was a fo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(7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i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ys breaking all the ru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hed tears with my(8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s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years we were poorer that the other little ki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ven though we had different daddy’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(10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ra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ings went wrong (11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amed ma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reminisce on the(12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caused, it was he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gging on my mama from a (13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4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ll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752480" y="8064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622"/>
                </a:solidFill>
                <a:latin typeface="Cooper Black"/>
              </a:rPr>
              <a:t>GRAMMAR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523880" y="1676520"/>
          <a:ext cx="8763120" cy="47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8763120" cy="47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219320" y="544680"/>
          <a:ext cx="6616440" cy="6161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44680"/>
                    <a:ext cx="6616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7" name=""/>
          <p:cNvGraphicFramePr/>
          <p:nvPr/>
        </p:nvGraphicFramePr>
        <p:xfrm>
          <a:off x="1295280" y="380880"/>
          <a:ext cx="6019920" cy="632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80880"/>
                    <a:ext cx="601992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33"/>
                </a:solidFill>
                <a:latin typeface="Curlz MT"/>
              </a:rPr>
              <a:t>CONTEXT CLUES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162920" y="2286000"/>
            <a:ext cx="761760" cy="6858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 certainly appreciate your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prais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I must say that I can see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nothing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so remarkably </a:t>
            </a:r>
            <a:r>
              <a:rPr b="1" lang="en-US" sz="3200" spc="-1" strike="noStrike">
                <a:solidFill>
                  <a:srgbClr val="ec0b08"/>
                </a:solidFill>
                <a:latin typeface="Arial"/>
              </a:rPr>
              <a:t>meritorious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in having done what any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</a:rPr>
              <a:t>decent person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 would do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33"/>
                </a:solidFill>
                <a:latin typeface="Curlz MT"/>
              </a:rPr>
              <a:t>CONTEXT CLUES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e only way to defeat the party in power is for all the reform groups to form a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alition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nd back a single slate of candidates. 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we tried to express our sympathy, we knew that mere words could do nothing to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assuage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her grief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Restatemen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at girl has way to much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bling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or expensive jewelry, on her wrist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You need to stop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tripping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or in other words, flipping out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I would not want to roll up at the club wearing that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janky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outfit, or in other words, that tacky shirt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638680" y="2971800"/>
            <a:ext cx="19051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53080" y="1981080"/>
            <a:ext cx="609840" cy="60984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3429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4495680"/>
            <a:ext cx="3124080" cy="53352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Example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That car is so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ghetto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for instance, the seats and mirrors are missing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Students at school are such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biter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, especially the ones that don’t do their work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Giving mad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prop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to peeps involves giving proper respect and praise. 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800600" y="19051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990720" y="32767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867280" y="41911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DEFINITION &amp; RESTAT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990720" y="3886200"/>
            <a:ext cx="739116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371600" y="4419360"/>
            <a:ext cx="320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4419720"/>
            <a:ext cx="3200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space shuttles to the moon will need to be timed so that the trips occur when the moon is in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peri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tage of orbit when it is closest to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mparison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she had a sweet voice, her words were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l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len Iverson is a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sick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basketball player resembling Michael Jordan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My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dawgs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nd I are tight. For instance, we help each other out when we’re feeling down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198108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14400" y="33526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3733920"/>
            <a:ext cx="2286000" cy="53316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ras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My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rib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needs to be cleaned, unlike that sparkling house!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Although she had a sweet voice, her words were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col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She didn’t want me to call her, but I </a:t>
            </a:r>
            <a:r>
              <a:rPr b="1" lang="en-US" sz="3000" spc="-1" strike="noStrike">
                <a:solidFill>
                  <a:srgbClr val="ec0b08"/>
                </a:solidFill>
                <a:latin typeface="Arial"/>
              </a:rPr>
              <a:t>holla’d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</a:rPr>
              <a:t> at her anyway.</a:t>
            </a:r>
            <a:endParaRPr b="0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172200" y="1981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66680" y="2971800"/>
            <a:ext cx="160020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48520" y="396252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ONTEXT CLUES: </a:t>
            </a:r>
            <a:br>
              <a:rPr sz="5500"/>
            </a:br>
            <a:r>
              <a:rPr b="1" lang="en-US" sz="5500" spc="-1" strike="noStrike">
                <a:solidFill>
                  <a:srgbClr val="336633"/>
                </a:solidFill>
                <a:latin typeface="Curlz MT"/>
              </a:rPr>
              <a:t>Cause &amp; Effect</a:t>
            </a:r>
            <a:endParaRPr b="0" lang="en-US" sz="55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f a boy has a girl and flirts with another girl on the D.L., then he would be considered a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playa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e has a big house and hot tub, so  hanging out with her was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off the hook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nce the two kids when to the club looking like giant </a:t>
            </a:r>
            <a:r>
              <a:rPr b="1" lang="en-US" sz="2800" spc="-1" strike="noStrike">
                <a:solidFill>
                  <a:srgbClr val="ec0b08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in their tye-dyes and sweats, none of the girls wanted to chill with them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198108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71800" y="236232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324480" y="3200400"/>
            <a:ext cx="609840" cy="45720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4114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ff00">
              <a:alpha val="51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962520" y="1600200"/>
            <a:ext cx="121896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ait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3886200"/>
            <a:ext cx="800100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of an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argonom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the selective breeding of crop plants and the development of methods to preserv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inclu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7200" y="3886200"/>
            <a:ext cx="838188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same 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8128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m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pench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necessary explanations, like her fondness for big words, either annoyed or amused her aud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434340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ONTR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3886200"/>
            <a:ext cx="830592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cont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8128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intre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ild, unlike her more fearful playmates, never doubted her ability to climb to the top of the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267080"/>
            <a:ext cx="3200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CAUSE &amp;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3886200"/>
            <a:ext cx="739116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371600" y="4419360"/>
            <a:ext cx="320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19720" y="4419720"/>
            <a:ext cx="3504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-then” stat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9480" y="1631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both sides involved in the labor dispute were </a:t>
            </a:r>
            <a:r>
              <a:rPr b="1" lang="en-US" sz="2400" spc="-1" strike="noStrike" u="sng">
                <a:solidFill>
                  <a:srgbClr val="1d02cf"/>
                </a:solidFill>
                <a:uFillTx/>
                <a:latin typeface="Arial"/>
              </a:rPr>
              <a:t>intransi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ir contract demands, a federal mediator had to be brought in to help reach an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415320" y="3352680"/>
            <a:ext cx="25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aggadocio"/>
              </a:rPr>
              <a:t>Signal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FINITION: (n) an old, beaten-up,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lapidated ca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4724280" y="3313080"/>
            <a:ext cx="35560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so much better than rolling in your </a:t>
            </a:r>
            <a:r>
              <a:rPr b="1" lang="en-US" sz="22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      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 other word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your </a:t>
            </a:r>
            <a:r>
              <a:rPr b="0" lang="en-US" sz="2200" spc="-1" strike="noStrike">
                <a:solidFill>
                  <a:srgbClr val="eaff01"/>
                </a:solidFill>
                <a:latin typeface="Arial"/>
              </a:rPr>
              <a:t>old beat-up station wag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din’ in your </a:t>
            </a:r>
            <a:r>
              <a:rPr b="1" lang="en-US" sz="22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ik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riding in one of those </a:t>
            </a:r>
            <a:r>
              <a:rPr b="0" lang="en-US" sz="2200" spc="-1" strike="noStrike">
                <a:solidFill>
                  <a:srgbClr val="eaff01"/>
                </a:solidFill>
                <a:latin typeface="Arial"/>
              </a:rPr>
              <a:t>cars on “Pimp My Ride” before they fix th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OP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MPARISON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mi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at beater car your uncle driv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TRAST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piece of junk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hot Aston Mart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there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AUSE &amp; EFFEC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you got in that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acci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ff01"/>
                </a:solidFill>
                <a:latin typeface="Arial"/>
              </a:rPr>
              <a:t>and let your brother spray paint the rust spo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you car looks like a </a:t>
            </a:r>
            <a:r>
              <a:rPr b="1" lang="en-US" sz="2000" spc="-1" strike="noStrike">
                <a:solidFill>
                  <a:srgbClr val="eaff01"/>
                </a:solidFill>
                <a:latin typeface="Arial"/>
              </a:rPr>
              <a:t>HOO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57:56Z</dcterms:created>
  <dc:creator>PSD</dc:creator>
  <dc:description/>
  <dc:language>en-US</dc:language>
  <cp:lastModifiedBy>PSD</cp:lastModifiedBy>
  <dcterms:modified xsi:type="dcterms:W3CDTF">2009-09-28T20:49:36Z</dcterms:modified>
  <cp:revision>14</cp:revision>
  <dc:subject/>
  <dc:title>CONTEXT CLUES</dc:title>
</cp:coreProperties>
</file>